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0C02-2AFE-40A9-8BF5-245C2343F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400" y="366408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392E-3656-483D-95F9-F9C5AC86E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55168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1A8D-D383-4A59-A86F-DC545E097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82916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23028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840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82916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23028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6B50-2A20-4BFE-8AFB-24BBF38B4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8400" y="3212640"/>
            <a:ext cx="4143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4143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28400" y="2171880"/>
            <a:ext cx="414324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8400" y="3212640"/>
            <a:ext cx="4143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F1E8-D5A0-4894-8252-0D69FA2F1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5168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400" y="366408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5168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82916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23028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840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182916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323028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4143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92CB-2B6E-4A91-9136-531733E69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0927-D341-4B32-9D0A-062E72307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8EC7-3512-4E7B-B3D6-6C810C294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400" y="2171880"/>
            <a:ext cx="414324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DC10-6418-4F8A-8202-B74CA4436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BB49-C277-4B0C-A72C-2B01903AC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5168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A706-247C-4438-9C22-06E73E3B3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7C90-A01C-4909-A82A-F85C0DD9B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549000"/>
            <a:ext cx="8153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1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312920"/>
            <a:ext cx="81532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241200" indent="-239760">
              <a:spcAft>
                <a:spcPts val="1125"/>
              </a:spcAft>
              <a:buClr>
                <a:srgbClr val="d2bb6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461880" indent="-218880">
              <a:spcAft>
                <a:spcPts val="1125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682560" indent="-218880">
              <a:spcAft>
                <a:spcPts val="1125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914400" indent="-230040">
              <a:spcAft>
                <a:spcPts val="1125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914400" indent="-230040">
              <a:spcAft>
                <a:spcPts val="1125"/>
              </a:spcAft>
              <a:buClr>
                <a:srgbClr val="000000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914400" indent="-230040">
              <a:spcAft>
                <a:spcPts val="1125"/>
              </a:spcAft>
              <a:buClr>
                <a:srgbClr val="000000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657920" y="6622560"/>
            <a:ext cx="1377720" cy="111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d2bb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FBAB-933C-4286-85F9-C5EB6A9DF829}" type="slidenum">
              <a:rPr b="0" lang="en-GB" sz="800" spc="-1" strike="noStrike">
                <a:solidFill>
                  <a:srgbClr val="d2bb6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82840" y="6581880"/>
            <a:ext cx="280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2bb68"/>
                </a:solidFill>
                <a:latin typeface="Arial"/>
                <a:ea typeface="ＭＳ Ｐゴシック"/>
              </a:rPr>
              <a:t>© Copyright QinetiQ limited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77000"/>
            <a:ext cx="9144000" cy="19044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>
                  <a:alpha val="4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33605"/>
          <a:stretch/>
        </p:blipFill>
        <p:spPr>
          <a:xfrm>
            <a:off x="8159760" y="185760"/>
            <a:ext cx="863640" cy="573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rcRect l="0" t="67279" r="0" b="0"/>
          <a:stretch/>
        </p:blipFill>
        <p:spPr>
          <a:xfrm>
            <a:off x="247680" y="6154560"/>
            <a:ext cx="1446120" cy="55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720" y="6270480"/>
            <a:ext cx="17290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QinetiQ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82840" y="6581880"/>
            <a:ext cx="280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© Copyright QinetiQ limited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877000"/>
            <a:ext cx="9144000" cy="19044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>
                  <a:alpha val="4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79800" y="6635880"/>
            <a:ext cx="28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2bb68"/>
                </a:solidFill>
                <a:latin typeface="Arial"/>
                <a:ea typeface="ＭＳ Ｐゴシック"/>
              </a:rPr>
              <a:t>© Copyright QinetiQ limited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6459480"/>
            <a:ext cx="2129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2bb68"/>
                </a:solidFill>
                <a:latin typeface="Arial"/>
              </a:rPr>
              <a:t>www.QinetiQ/etp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67279" r="0" b="0"/>
          <a:stretch/>
        </p:blipFill>
        <p:spPr>
          <a:xfrm>
            <a:off x="247680" y="6154560"/>
            <a:ext cx="1446120" cy="559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1440" indent="0"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243000" algn="ctr">
              <a:spcAft>
                <a:spcPts val="876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3" marL="463680" algn="ctr">
              <a:spcAft>
                <a:spcPts val="876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684360" algn="ctr">
              <a:spcAft>
                <a:spcPts val="876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684360">
              <a:spcBef>
                <a:spcPts val="349"/>
              </a:spcBef>
              <a:buClr>
                <a:srgbClr val="000000"/>
              </a:buClr>
              <a:buFont typeface="TheSans Q5 Plai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684360">
              <a:spcBef>
                <a:spcPts val="349"/>
              </a:spcBef>
              <a:buClr>
                <a:srgbClr val="000000"/>
              </a:buClr>
              <a:buFont typeface="TheSans Q5 Plai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8840" y="1552680"/>
            <a:ext cx="624816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light Test Safety Workshop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42760" y="3355920"/>
            <a:ext cx="545796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oger H Beazle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erospace Advis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QinetiQ/ETPS U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48:41Z</dcterms:created>
  <dc:creator/>
  <dc:description/>
  <dc:language>en-US</dc:language>
  <cp:lastModifiedBy>thomas.roberts</cp:lastModifiedBy>
  <dcterms:modified xsi:type="dcterms:W3CDTF">2007-05-09T02:36:05Z</dcterms:modified>
  <cp:revision>171</cp:revision>
  <dc:subject/>
  <dc:title>Presentation title</dc:title>
</cp:coreProperties>
</file>